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FDFC-FD4A-4386-8453-71CD81A4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47C7-7D6B-48A8-859C-B79743A1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BFF9-67FF-45F3-B708-57D8AD3C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07D3-2147-462D-8944-33816A91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282F-7741-4723-9B2A-7780A648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2F17-642E-49EB-BD6F-15FEA72D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DDEE-9278-4233-9B28-254A2B5D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254C-B439-45DF-AB28-029C7E3E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2196-5122-4498-A471-B55B4A8E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7D8B-921A-4678-9887-07CA1D1A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6482-FD8F-47CC-9A64-7BCEC959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FD7A-DA88-44CC-B378-71A1484A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DACE-4C6F-452E-A171-C00D459B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30CB-9C90-4401-8E3A-F78CDF82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B049-771F-4BFB-9CE9-FD9DF666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FAB5-E4A3-4270-B9B3-D68F3D62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7B0E-BE02-4630-9C86-C948DA83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9660-3165-4F0C-900D-31C9BB89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4B31-133E-4183-ADE0-389A4201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2D47-6C81-4448-848A-A1AFB25D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2175-65E0-4F7A-8254-68006A79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27A0-A353-4675-A0F9-279A2E35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2EC0-30F2-4AD3-AC29-B1FCC1FE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66EB-7746-4230-90ED-EEA1DBF3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2B26-D00B-4EC1-89E5-FF71AF218AB2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58DD-B7B4-4450-91E6-92EAC5D84FFE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600"/>
            </a:br>
            <a:br>
              <a:rPr sz="5600"/>
            </a:br>
            <a:br>
              <a:rPr sz="5600"/>
            </a:br>
            <a:br>
              <a:rPr sz="5600"/>
            </a:br>
            <a:br>
              <a:rPr sz="5600"/>
            </a:br>
            <a:br>
              <a:rPr sz="5600"/>
            </a:br>
            <a:br>
              <a:rPr sz="5600"/>
            </a:br>
            <a:br>
              <a:rPr sz="5600"/>
            </a:br>
            <a:br>
              <a:rPr sz="5600"/>
            </a:br>
            <a:br>
              <a:rPr sz="5600"/>
            </a:br>
            <a:r>
              <a:rPr b="1" i="1" lang="pt-BR" sz="5600" spc="-1" strike="noStrike">
                <a:solidFill>
                  <a:srgbClr val="ffcc66"/>
                </a:solidFill>
                <a:latin typeface="Arial"/>
              </a:rPr>
              <a:t>                      </a:t>
            </a:r>
            <a:br>
              <a:rPr sz="5600"/>
            </a:br>
            <a:br>
              <a:rPr sz="5600"/>
            </a:br>
            <a:r>
              <a:rPr b="1" i="1" lang="pt-BR" sz="4800" spc="-1" strike="noStrike">
                <a:solidFill>
                  <a:srgbClr val="ffcc66"/>
                </a:solidFill>
                <a:latin typeface="Arial"/>
              </a:rPr>
              <a:t>RESULTADOS PARCIAIS DO GRUPO DE TRABALHO DE BARRAGENS DE REJEITO</a:t>
            </a:r>
            <a:br>
              <a:rPr sz="4800"/>
            </a:br>
            <a:br>
              <a:rPr sz="7600"/>
            </a:b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7222-A5B9-4BB6-B9F4-1514BAC04D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Arial"/>
              </a:rPr>
              <a:t>Objetivo da Apresenta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resentar resultados parciais GT Barragens de rejei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por e aprovar alteração dos objetivos inici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9F27-3A33-4C5B-BCF2-55DFD40CC5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Arial"/>
              </a:rPr>
              <a:t>Histór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icio: palestra do DNPM (Alexandre) sobre Barragens de Rejeito na Miner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riação de GT para elaboração de Proposta de Mo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alização de 3 reuniões de trabal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laboração de nova proposta de objetivo do G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embros atuais: SRH/MMA, ANA, Ministério dos Transportes, DNP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Justificativa de mudança: improdutividade, em geral sem resultado, perpetua ações desarticul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F2BD-55D7-435E-81BF-45C0693389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Arial"/>
              </a:rPr>
              <a:t>Objetivo Pretendido para o G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laborar proposta de construção/criação de Rede de Articulação e Comissão Gestora. Moção de encaminham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embros: SRH/MMA, ANA, DNPM, IBAMA, CONFEA, Ministério dos Transportes, Comitê Brasileiro de Barragens, Representantes ambientais estaduais, outros a serem identificados ou que quiserem particip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D9A7-D425-4E0B-B5C3-B07473A36A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Arial"/>
              </a:rPr>
              <a:t>Rede de articulação - Objetiv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rticular e acompanhar a evolução dos assuntos ligados à gestão da segurança de barragens de rejeito e encaminhar propostas de procedimentos integrados para problemas diagnostic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8AAC-4251-4F37-BA40-68CE1183D6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Arial"/>
              </a:rPr>
              <a:t>Rede de articulação – Comissão Gestor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RH/MMA – Articulador execu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BAM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NP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F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Órgãos ambientais estadu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ut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finir normas de atuação/regimento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DE7D-4AAB-45D3-93C9-136AE6A169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66"/>
                </a:solidFill>
                <a:latin typeface="Arial"/>
              </a:rPr>
              <a:t>Rede de articulação – Desenho Inicia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posta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odos os órgãos mantém suas funções, fortalec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adastro com alimentação permanente (barragens prevista, em construção, em atividade, abandonad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laboração de procedimentos integrados de acordo com competências das institui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unicação permanente e contato direto entre atores normalmente desconhec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cesso pela internet, aberta a to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limentação mediante senh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laboração de produtos, map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tuação junto ao CNRH/CON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finição outorga do projeto, licenciamento ambien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ut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D9BA-0E81-414B-A915-F1287A91FF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676520" y="0"/>
            <a:ext cx="6858000" cy="6858000"/>
            <a:chOff x="1676520" y="0"/>
            <a:chExt cx="6858000" cy="6858000"/>
          </a:xfrm>
        </p:grpSpPr>
        <p:sp>
          <p:nvSpPr>
            <p:cNvPr id="102" name=""/>
            <p:cNvSpPr/>
            <p:nvPr/>
          </p:nvSpPr>
          <p:spPr>
            <a:xfrm>
              <a:off x="3819600" y="806760"/>
              <a:ext cx="1571400" cy="94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99"/>
                  </a:solidFill>
                  <a:latin typeface="Verdana"/>
                </a:rPr>
                <a:t>Rede de Articulaçã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19440" y="0"/>
              <a:ext cx="1143000" cy="53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ffff"/>
                  </a:solidFill>
                  <a:latin typeface="Verdana"/>
                </a:rPr>
                <a:t>Cadastr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ffff"/>
                  </a:solidFill>
                  <a:latin typeface="Verdana"/>
                </a:rPr>
                <a:t>(IBAMA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62520" y="2554920"/>
              <a:ext cx="1285920" cy="53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cc99ff"/>
                  </a:solidFill>
                  <a:latin typeface="Verdana"/>
                </a:rPr>
                <a:t>Comissão Gestor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76520" y="941400"/>
              <a:ext cx="1428840" cy="53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ffff"/>
                  </a:solidFill>
                  <a:latin typeface="Verdana"/>
                </a:rPr>
                <a:t>Diagnóstico e Açõ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19440" y="2151360"/>
              <a:ext cx="11430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ffff"/>
                  </a:solidFill>
                  <a:latin typeface="Verdana"/>
                </a:rPr>
                <a:t>Produto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19760" y="134280"/>
              <a:ext cx="11430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ffff"/>
                  </a:solidFill>
                  <a:latin typeface="Verdana"/>
                </a:rPr>
                <a:t>Interne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76520" y="363060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534360" y="3092760"/>
              <a:ext cx="185724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c0c0c0"/>
                  </a:solidFill>
                  <a:latin typeface="Verdana"/>
                </a:rPr>
                <a:t>Nível Feder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76520" y="430308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34360" y="3764880"/>
              <a:ext cx="185724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c0c0c0"/>
                  </a:solidFill>
                  <a:latin typeface="Verdana"/>
                </a:rPr>
                <a:t>Nível Estadu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76520" y="510984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360" y="4572000"/>
              <a:ext cx="185724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c0c0c0"/>
                  </a:solidFill>
                  <a:latin typeface="Verdana"/>
                </a:rPr>
                <a:t>Nível Municip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91660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77280" y="5378760"/>
              <a:ext cx="15714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c0c0c0"/>
                  </a:solidFill>
                  <a:latin typeface="Verdana"/>
                </a:rPr>
                <a:t>ONG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76520" y="685800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34360" y="6320160"/>
              <a:ext cx="200016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c0c0c0"/>
                  </a:solidFill>
                  <a:latin typeface="Verdana"/>
                </a:rPr>
                <a:t>Comitês de Baci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62680" y="1075680"/>
              <a:ext cx="11430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ffff"/>
                  </a:solidFill>
                  <a:latin typeface="Verdana"/>
                </a:rPr>
                <a:t>Evento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19760" y="2017080"/>
              <a:ext cx="15714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ffff"/>
                  </a:solidFill>
                  <a:latin typeface="Verdana"/>
                </a:rPr>
                <a:t>Comunicaçã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33840" y="1882440"/>
              <a:ext cx="0" cy="53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3105360" y="1748160"/>
              <a:ext cx="57132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48280" y="1209960"/>
              <a:ext cx="42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48280" y="403200"/>
              <a:ext cx="428400" cy="2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391360" y="403200"/>
              <a:ext cx="285480" cy="2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34280" y="1209960"/>
              <a:ext cx="28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48440" y="1882440"/>
              <a:ext cx="42840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3840" y="37648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33840" y="4437360"/>
              <a:ext cx="0" cy="53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33840" y="5244480"/>
              <a:ext cx="0" cy="53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33840" y="6051240"/>
              <a:ext cx="0" cy="53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E9B3-56B7-4D88-B5B9-FFD1385772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Arial"/>
              </a:rPr>
              <a:t>Próximas açõ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arta convite ao IBAMA, CONFEA e outros que se determina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arta pergunta ao CONFEA ou outros determin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erfeiçoamento desenho inicial a aprtir de propo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2C28-30CA-4AAB-B5ED-A12E421765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3T03:59:54Z</dcterms:created>
  <dc:creator>Francis Vargas</dc:creator>
  <dc:description/>
  <dc:language>en-US</dc:language>
  <cp:lastModifiedBy>Francis Priscilla</cp:lastModifiedBy>
  <dcterms:modified xsi:type="dcterms:W3CDTF">2003-08-12T14:49:35Z</dcterms:modified>
  <cp:revision>224</cp:revision>
  <dc:subject/>
  <dc:title>Águas Subterrãmeas</dc:title>
</cp:coreProperties>
</file>